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17ED-3A65-41F7-A85D-73E01144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86F4-1AE8-4B17-B9D4-15263173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CA4-CB18-4182-9D2B-BE78E93B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C91-6FF6-4BC1-9B58-D97CA802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5CA-1465-446C-90E1-FAEA3E22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4353-2372-4304-9A86-562F0A45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58F1-0B6F-4D86-ADE0-36403962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D943-BE78-42F0-B984-E550A57C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A8B-1407-4DE7-9161-7AA83F96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7CF-BCF2-46F8-8C8C-5099FE38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8BE-223F-4B28-AC0E-21538408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FFA-FE03-4B04-9A7D-6403B898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BD02-B416-466B-B869-BEC1D3145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p:transition advTm="4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29080" y="2781360"/>
            <a:ext cx="3886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esiunea iunie - iuli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12</cp:lastModifiedBy>
  <dcterms:modified xsi:type="dcterms:W3CDTF">2012-06-18T11:18:2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